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amera.wav" ContentType="audio/x-wav"/>
  <Override PartName="/ppt/media/image6.png" ContentType="image/png"/>
  <Override PartName="/ppt/media/image7.jpeg" ContentType="image/jpeg"/>
  <Override PartName="/ppt/media/push.wav" ContentType="audio/x-wav"/>
  <Override PartName="/ppt/media/image3.wmf" ContentType="image/x-wmf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EA39-B6E3-4BB7-8F7E-EFB4871B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411-8046-4AD0-AB76-684A5057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68E3-0469-4C88-8A2C-8B16AD72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B01D-39C9-45D2-8833-3431ED52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EF21-BF86-483D-9BBC-5788E241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F891-DD9B-4F3F-B5C7-5B6B6A2C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89B3-B4EB-4AA2-A112-AA2C6FAB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42E-FA38-46D6-89A0-033F3333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DE4E-A411-47F3-9D7F-B01F971F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713-A1EB-432C-ABA9-6F579849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D508-17B8-4348-AF63-92023EB9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0FA5-D888-44A3-83EC-ACF93FDE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73DE-EA04-4CE1-9E02-9CBA44B26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pple.com/iphone/technology/specs.html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hyperlink" Target="http://reviews.cnet.com/smartphones/apple-iphone-3g-16gb/4505-6452_7-33054209.html" TargetMode="External"/><Relationship Id="rId4" Type="http://schemas.openxmlformats.org/officeDocument/2006/relationships/image" Target="../media/image7.jpe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00200" y="1981080"/>
            <a:ext cx="57150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Technology</a:t>
            </a:r>
            <a:endParaRPr b="1" lang="en-US" sz="4000" spc="1" strike="noStrike">
              <a:ln w="2844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</p:spTree>
  </p:cSld>
  <p:transition spd="slow" advTm="2000">
    <p:randomBar dir="vert"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50000">
              <a:srgbClr val="55261c"/>
            </a:gs>
            <a:gs pos="100000">
              <a:srgbClr val="dceb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981080" y="0"/>
            <a:ext cx="51055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radley Hand ITC"/>
              </a:rPr>
              <a:t>References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radley Hand ITC"/>
              <a:ea typeface="Bradley Hand ITC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36232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http://www.groundreport.com/Arts_and_Culture/IPhone-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http://spanglish-geek.blogspot.com/2008/09/advantages-and-disadvantages-of-iphone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Mostly websites on goog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randomBar dir="horz"/>
    <p:sndAc>
      <p:stSnd>
        <p:snd r:embed="rId1" name="pu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 rot="5400000">
            <a:off x="-1562400" y="2781000"/>
            <a:ext cx="5486400" cy="1600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-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Pristina"/>
              </a:rPr>
              <a:t>Fred Barrett</a:t>
            </a:r>
            <a:endParaRPr b="1" lang="en-US" sz="5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Pristina"/>
              <a:ea typeface="Pristina"/>
            </a:endParaRPr>
          </a:p>
        </p:txBody>
      </p:sp>
      <p:sp>
        <p:nvSpPr>
          <p:cNvPr id="88" name=""/>
          <p:cNvSpPr txBox="1"/>
          <p:nvPr/>
        </p:nvSpPr>
        <p:spPr>
          <a:xfrm rot="5697600">
            <a:off x="4981320" y="2638440"/>
            <a:ext cx="6172200" cy="1504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1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584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Pristina"/>
              </a:rPr>
              <a:t>Tribecca Travis</a:t>
            </a:r>
            <a:endParaRPr b="1" lang="en-US" sz="5400" spc="1" strike="noStrike">
              <a:ln w="1584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Pristina"/>
              <a:ea typeface="Pristi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09680" y="2209680"/>
            <a:ext cx="495324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The End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slow" advTm="2000">
    <p:randomBar dir="vert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3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3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iddyup Std"/>
              </a:rPr>
              <a:t>What is Technolog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447920"/>
            <a:ext cx="7924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Monotype Corsiva"/>
              </a:rPr>
              <a:t>A broad term that refers both to artifacts created by humans, such as machines, and the methods used to create those artifact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randomBar dir="horz"/>
    <p:sndAc>
      <p:stSnd>
        <p:snd r:embed="rId1" name="push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180360" y="4320"/>
            <a:ext cx="8786160" cy="6848280"/>
            <a:chOff x="180360" y="4320"/>
            <a:chExt cx="8786160" cy="6848280"/>
          </a:xfrm>
        </p:grpSpPr>
        <p:sp>
          <p:nvSpPr>
            <p:cNvPr id="47" name="_s4126"/>
            <p:cNvSpPr/>
            <p:nvPr/>
          </p:nvSpPr>
          <p:spPr>
            <a:xfrm flipH="1" flipV="1">
              <a:off x="2963160" y="1763640"/>
              <a:ext cx="1077480" cy="11152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4125"/>
            <p:cNvSpPr/>
            <p:nvPr/>
          </p:nvSpPr>
          <p:spPr>
            <a:xfrm>
              <a:off x="1509120" y="526320"/>
              <a:ext cx="1832040" cy="13719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Oct. 18, 2002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Register Tradema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In Singap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4134"/>
            <p:cNvSpPr/>
            <p:nvPr/>
          </p:nvSpPr>
          <p:spPr>
            <a:xfrm flipH="1" flipV="1">
              <a:off x="1964160" y="2790000"/>
              <a:ext cx="1746360" cy="4269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4133"/>
            <p:cNvSpPr/>
            <p:nvPr/>
          </p:nvSpPr>
          <p:spPr>
            <a:xfrm>
              <a:off x="180360" y="1896120"/>
              <a:ext cx="1831320" cy="137196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June 9, 200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3G GPS &amp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Third party ap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4132"/>
            <p:cNvSpPr/>
            <p:nvPr/>
          </p:nvSpPr>
          <p:spPr>
            <a:xfrm flipH="1">
              <a:off x="1964160" y="3637440"/>
              <a:ext cx="1746360" cy="4222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4131"/>
            <p:cNvSpPr/>
            <p:nvPr/>
          </p:nvSpPr>
          <p:spPr>
            <a:xfrm>
              <a:off x="180360" y="3588840"/>
              <a:ext cx="1831320" cy="13719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Feb. 5, 200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IPhone in 16 G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4130"/>
            <p:cNvSpPr/>
            <p:nvPr/>
          </p:nvSpPr>
          <p:spPr>
            <a:xfrm flipH="1">
              <a:off x="2960280" y="3976200"/>
              <a:ext cx="1080360" cy="11095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4129"/>
            <p:cNvSpPr/>
            <p:nvPr/>
          </p:nvSpPr>
          <p:spPr>
            <a:xfrm>
              <a:off x="1509120" y="4959000"/>
              <a:ext cx="1832040" cy="13719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Oct. 16, 200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Released i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Fr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4128"/>
            <p:cNvSpPr/>
            <p:nvPr/>
          </p:nvSpPr>
          <p:spPr>
            <a:xfrm>
              <a:off x="4571640" y="4105440"/>
              <a:ext cx="2880" cy="13719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4127"/>
            <p:cNvSpPr/>
            <p:nvPr/>
          </p:nvSpPr>
          <p:spPr>
            <a:xfrm>
              <a:off x="3660480" y="5480640"/>
              <a:ext cx="1832040" cy="137196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Sept. 18, 200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IPhone wa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released in t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U.K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4124"/>
            <p:cNvSpPr/>
            <p:nvPr/>
          </p:nvSpPr>
          <p:spPr>
            <a:xfrm>
              <a:off x="5108760" y="3976200"/>
              <a:ext cx="1073520" cy="11095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4123"/>
            <p:cNvSpPr/>
            <p:nvPr/>
          </p:nvSpPr>
          <p:spPr>
            <a:xfrm>
              <a:off x="5808960" y="4956120"/>
              <a:ext cx="1832040" cy="13719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Sept. 5, 200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IPod Tou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was releas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4122"/>
            <p:cNvSpPr/>
            <p:nvPr/>
          </p:nvSpPr>
          <p:spPr>
            <a:xfrm>
              <a:off x="5438160" y="3634920"/>
              <a:ext cx="1740240" cy="4248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4121"/>
            <p:cNvSpPr/>
            <p:nvPr/>
          </p:nvSpPr>
          <p:spPr>
            <a:xfrm>
              <a:off x="7134480" y="3586680"/>
              <a:ext cx="1832040" cy="1371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Jan. 9, 2006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Made offi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by Steve J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4120"/>
            <p:cNvSpPr/>
            <p:nvPr/>
          </p:nvSpPr>
          <p:spPr>
            <a:xfrm flipV="1">
              <a:off x="5438160" y="2791800"/>
              <a:ext cx="1740240" cy="4222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4119"/>
            <p:cNvSpPr/>
            <p:nvPr/>
          </p:nvSpPr>
          <p:spPr>
            <a:xfrm>
              <a:off x="7134480" y="1893240"/>
              <a:ext cx="1832040" cy="137196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Sept. 25, 200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Register Tradema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In the U.S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4118"/>
            <p:cNvSpPr/>
            <p:nvPr/>
          </p:nvSpPr>
          <p:spPr>
            <a:xfrm flipV="1">
              <a:off x="5108760" y="1766160"/>
              <a:ext cx="1073520" cy="11070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4117"/>
            <p:cNvSpPr/>
            <p:nvPr/>
          </p:nvSpPr>
          <p:spPr>
            <a:xfrm>
              <a:off x="5805720" y="526320"/>
              <a:ext cx="1832040" cy="13719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Sept. 7, 20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Motorola ROK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w/ ITu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4116"/>
            <p:cNvSpPr/>
            <p:nvPr/>
          </p:nvSpPr>
          <p:spPr>
            <a:xfrm flipV="1">
              <a:off x="4571640" y="1374120"/>
              <a:ext cx="0" cy="13690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4115"/>
            <p:cNvSpPr/>
            <p:nvPr/>
          </p:nvSpPr>
          <p:spPr>
            <a:xfrm>
              <a:off x="3657240" y="4320"/>
              <a:ext cx="1832040" cy="137196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Dec. 3, 20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Register Tradema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In Austral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4114"/>
            <p:cNvSpPr/>
            <p:nvPr/>
          </p:nvSpPr>
          <p:spPr>
            <a:xfrm>
              <a:off x="3657240" y="2743920"/>
              <a:ext cx="1832040" cy="137196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IPh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2000">
    <p:randomBar dir="vert"/>
    <p:sndAc>
      <p:stSnd>
        <p:snd r:embed="rId4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ddddd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>
            <a:hlinkClick r:id="rId1"/>
          </p:cNvPr>
          <p:cNvPicPr/>
          <p:nvPr/>
        </p:nvPicPr>
        <p:blipFill>
          <a:blip r:embed="rId2"/>
          <a:srcRect l="17100" t="16401" r="13640" b="8402"/>
          <a:stretch/>
        </p:blipFill>
        <p:spPr>
          <a:xfrm>
            <a:off x="6248520" y="2819520"/>
            <a:ext cx="1828800" cy="2666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rcRect l="20010" t="0" r="26663" b="6048"/>
          <a:stretch/>
        </p:blipFill>
        <p:spPr>
          <a:xfrm>
            <a:off x="914400" y="2743200"/>
            <a:ext cx="144792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838080" y="22860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Edwardian Script ITC"/>
              </a:rPr>
              <a:t>The Old v. The New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Edwardian Script ITC"/>
              <a:ea typeface="Edwardian Script ITC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590920" y="2590920"/>
            <a:ext cx="335268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Edwardian Script ITC"/>
              </a:rPr>
              <a:t>IPhone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Edwardian Script ITC"/>
              <a:ea typeface="Edwardian Script ITC"/>
            </a:endParaRPr>
          </a:p>
        </p:txBody>
      </p:sp>
    </p:spTree>
  </p:cSld>
  <p:transition spd="slow" advTm="2000">
    <p:randomBar dir="horz"/>
    <p:sndAc>
      <p:stSnd>
        <p:snd r:embed="rId4" name="pus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Apple iPhone 3G - 16GB, black (AT&amp;T)"/>
          <p:cNvPicPr/>
          <p:nvPr/>
        </p:nvPicPr>
        <p:blipFill>
          <a:blip r:embed="rId2"/>
          <a:srcRect l="31998" t="0" r="30675" b="7559"/>
          <a:stretch/>
        </p:blipFill>
        <p:spPr>
          <a:xfrm>
            <a:off x="7010280" y="380880"/>
            <a:ext cx="1676520" cy="281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Full review: Apple iPhone 3G">
            <a:hlinkClick r:id="rId3"/>
          </p:cNvPr>
          <p:cNvPicPr/>
          <p:nvPr/>
        </p:nvPicPr>
        <p:blipFill>
          <a:blip r:embed="rId4"/>
          <a:srcRect l="7685" t="0" r="8787" b="2604"/>
          <a:stretch/>
        </p:blipFill>
        <p:spPr>
          <a:xfrm>
            <a:off x="5715000" y="3581280"/>
            <a:ext cx="2895480" cy="2867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228600"/>
            <a:ext cx="55785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The IPhone is being used in various different ways such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urlz MT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A normal cell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Monotype Corsiva"/>
              <a:buChar char="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Tex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Monotype Corsiva"/>
              <a:buChar char="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Calling in an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Monotype Corsiva"/>
              <a:buChar char="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Camera &amp;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urlz MT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Has GP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urlz MT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Phon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urlz MT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IP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urlz MT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urlz MT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3G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urlz MT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APPs 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Curlz MT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Monotype Corsiva"/>
              </a:rPr>
              <a:t>Microsoft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randomBar dir="vert"/>
    <p:sndAc>
      <p:stSnd>
        <p:snd r:embed="rId5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1295280"/>
            <a:ext cx="8397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Monotype Corsiva"/>
              </a:rPr>
              <a:t>Integrated web brow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Monotype Corsiva"/>
              </a:rPr>
              <a:t>Contact &amp; Appointment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Monotype Corsiva"/>
              </a:rPr>
              <a:t>Integration with Microsoft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Monotype Corsiva"/>
              </a:rPr>
              <a:t>Software from the iTunes st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Monotype Corsiva"/>
              </a:rPr>
              <a:t>G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Monotype Corsiva"/>
              </a:rPr>
              <a:t>Lower P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52280"/>
            <a:ext cx="8610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Advantages of the IPhone</a:t>
            </a:r>
            <a:endParaRPr b="1" i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ransition spd="slow" advTm="2000">
    <p:randomBar dir="horz"/>
    <p:sndAc>
      <p:stSnd>
        <p:snd r:embed="rId1" name="pu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5000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203480" y="2322360"/>
            <a:ext cx="7102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920" y="0"/>
            <a:ext cx="8001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5000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Disadvantages of the IPhone</a:t>
            </a:r>
            <a:endParaRPr b="1" i="1" lang="en-US" sz="54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5000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822320"/>
            <a:ext cx="4419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SIM Ac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No games inclu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Came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Doesn’t trans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Absence of Slot Mem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Marking Vo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Video Recor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House w/o 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1600200"/>
            <a:ext cx="4800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Cannot send MMS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Unable to send via Blueto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No removable Bat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randomBar dir="vert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457200"/>
            <a:ext cx="7972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2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.....More IPhone Disadvantages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2209680"/>
            <a:ext cx="5715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No wireless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No AD2P on the Blueto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No video ca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No physical key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No hap tic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No external de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No FM radio &amp; 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randomBar dir="horz"/>
    <p:sndAc>
      <p:stSnd>
        <p:snd r:embed="rId1" name="push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f4cf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380880"/>
            <a:ext cx="72388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Out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Georgia"/>
              </a:rPr>
              <a:t>Conclusion</a:t>
            </a:r>
            <a:endParaRPr b="1" i="1" lang="en-US" sz="5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2514600"/>
            <a:ext cx="7483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eorgia"/>
              </a:rPr>
              <a:t>Technology is good, but there are a lot problems everyday with technology.  Today has a lot of amazing technology, but the technology is not completely reliable.  So how do we solve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randomBar dir="vert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6:45:47Z</dcterms:created>
  <dc:creator>809277</dc:creator>
  <dc:description/>
  <dc:language>en-US</dc:language>
  <cp:lastModifiedBy>809277</cp:lastModifiedBy>
  <dcterms:modified xsi:type="dcterms:W3CDTF">2009-03-05T16:47:43Z</dcterms:modified>
  <cp:revision>6</cp:revision>
  <dc:subject/>
  <dc:title>Slide 1</dc:title>
</cp:coreProperties>
</file>